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83301E4-0986-4840-A27A-E692B53374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EF562F-8A6D-49DF-97AF-90BC5114F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34460E0-3802-4E13-B66E-8557C6D7D6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51FC09B-3197-4842-A6B3-A1DAF9BC03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069A3EB-9782-4A00-B61E-FA797AE233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708F56B-D40A-46F3-A492-A7FB2C70FA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6846494-26CE-453B-BDD2-CC3EFE4930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E829350-E51F-48EB-9603-A81DC29D85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EC868B5-7700-474B-9AC3-CD8C7F189C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0C917AF-D12A-4AB7-B3F2-CE7FA60E8C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2444-9010-493E-8ABC-BDF8795649E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25BC-3FC1-49DB-888C-715532C672D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5FE5-A430-4D2F-8892-F88E26713A2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74A3-E922-4B67-B2D4-2EAC07DCB5C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3294-110E-4B07-A3BD-14CF38EF2D6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50EC-EF0A-420F-A441-EED457F143F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90DD-DE99-4E00-A594-164C5A23464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2229-BB35-435A-B4B3-BB7BBC3C65A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9514-0E9E-4F26-B055-45A894DE21C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AD37-8621-4A72-B4F3-FF8C8013711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CB38-78EF-4710-ACA7-733ED355FB2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9036-B6CD-4518-A81C-48D3DE94125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DE79-CE81-46D0-AB05-5A8CB7AB8EE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243-F89C-491D-B116-86CF231122D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3F27-2917-487F-90F0-B3519B55176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4807-01F1-4249-94B3-3E68F611D1F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Using PSP1.1 - </a:t>
            </a:r>
            <a:fld id="{64F47784-A982-4FA2-84C1-1C5B902F56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38240" y="1761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ersonal Software Process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r Engineers: Part I</a:t>
            </a:r>
            <a:br>
              <a:rPr sz="31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torial: Using PSP1.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068520" y="176832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Pla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rcRect l="76922" t="19741" r="1532" b="60442"/>
          <a:stretch/>
        </p:blipFill>
        <p:spPr>
          <a:xfrm>
            <a:off x="2075040" y="3262320"/>
            <a:ext cx="3116160" cy="23209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73016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task order menu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 the task and schedul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task order for the selected task or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rcRect l="1205" t="9229" r="5513" b="53479"/>
          <a:stretch/>
        </p:blipFill>
        <p:spPr>
          <a:xfrm>
            <a:off x="958680" y="3355920"/>
            <a:ext cx="7610760" cy="24638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3016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anned hours for each schedule week must be ente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data are calculated automatica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and schedule planning templates are not required for small programs, but are helpful for longer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1.1 gives you insight into your historical performance (CPI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ew elements of PSP1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1.1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1.1 for program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.1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s of PSP1.1 are to introduce and practice methods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resource and schedul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your performance against thes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dging likely project completion 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new process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planning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 planning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are typically used for projects that take several days or wee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re not required for the PSP exerci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ject plan summary has been expanded to include basic process statis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1.1 Project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rcRect l="1644" t="17802" r="42526" b="68136"/>
          <a:stretch/>
        </p:blipFill>
        <p:spPr>
          <a:xfrm>
            <a:off x="2251080" y="4734000"/>
            <a:ext cx="4494240" cy="16621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3016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section has been expanded to incl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e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New Reus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values are calculated automatica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Definition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: planned development time for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-Date: sum of planned development time for all completed projects +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: actual development time for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-Date: sum of actual development time for all completed projects +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Performance Index (CP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-Date planned time / To-Date actual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Definition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eused: percentage of reused size for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sed / Total * 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New Reusable: percentage of new reusable code developed for thi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Reusable / Added and Modified * 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and Schedul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and schedule plans are used to estimate when work will be comple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s are entered on the task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task in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e task comple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 hours are entered on the schedul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hours for each schedule we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hours for each schedule we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Pla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9" descr=""/>
          <p:cNvPicPr/>
          <p:nvPr/>
        </p:nvPicPr>
        <p:blipFill>
          <a:blip r:embed="rId1"/>
          <a:srcRect l="1485" t="8855" r="1532" b="54996"/>
          <a:stretch/>
        </p:blipFill>
        <p:spPr>
          <a:xfrm>
            <a:off x="934920" y="3933720"/>
            <a:ext cx="7194600" cy="21718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3016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hases of each project are automatically added to the task plan when the project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the actual date completed needs to be entered, the other data are automatically calcul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27Z</dcterms:modified>
  <cp:revision>139</cp:revision>
  <dc:subject/>
  <dc:title>No Slide Title</dc:title>
</cp:coreProperties>
</file>